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3AE-3DBF-4E20-9CDB-242A1C6A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447-F136-4A23-97D3-0EE3B39A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0A8-C602-4266-89D4-1E07FE1D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793-20BC-4FFC-8451-BD66CBEB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E60-74BB-45C2-B9C2-62AE714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425-976F-4062-A4A1-829D857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2C5-0E2A-4644-9EEE-CED3C70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78F-5569-4089-8535-DDF7D29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625-34D2-41CD-A297-4763A5C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CE5-22DE-4E37-B01F-B521F2D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410-2059-4735-9C14-F876BD9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0CA-7381-424F-82BB-A25BDCF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307B-C030-4D74-A242-1434F24BA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4:57:25Z</dcterms:created>
  <dc:creator>Grupo Editorial</dc:creator>
  <dc:description/>
  <dc:language>en-US</dc:language>
  <cp:lastModifiedBy>Grupo Editorial</cp:lastModifiedBy>
  <dcterms:modified xsi:type="dcterms:W3CDTF">2001-09-27T15:00:33Z</dcterms:modified>
  <cp:revision>1</cp:revision>
  <dc:subject/>
  <dc:title>Sin título de diapositiva</dc:title>
</cp:coreProperties>
</file>